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C7BF-2700-4A16-9B8F-D88823E3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5E7-4CD5-44F5-B073-E03C09F6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D346-10C2-433A-AD29-144E9FE9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C3B3-1E2B-446F-80C1-AE2C277B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C1DD-270F-4B9E-8C47-E635EDAF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3A6D-992F-4769-99E7-9E5A3954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BB64-7079-4CDF-9EB5-208A6094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829B-90FA-49BA-8C9A-7B8DEA63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CC60-E039-442A-9A09-CD6828FC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F107-C26F-480F-80DC-00ECBEB9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120B-C656-4F2E-9089-943F0B76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BB4-34F8-4CB4-8692-088F3EF8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E38F-208A-4408-B64A-529B0BAF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E5A7-6416-4A77-8EDA-95813C1C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7C62-B42F-4653-8354-F1EDF316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D7E9-46B0-419D-86BA-2D876C38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DD66-490C-4D40-967E-7862817C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D08C-7B49-4C34-8BE7-C32237EA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0F5-9489-47FE-9E74-3D8082C3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A4C-16AF-473E-B4D8-87FC2519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93AE-193D-4309-A1E0-C59AEEBA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8CDB-E996-4E19-BEB0-400AA90D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EC9-B24F-43BE-B159-66479329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672-C549-475E-9197-D6C23551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16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2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91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892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>
                  <a:gd name="textAreaLeft" fmla="*/ 0 w 1680840"/>
                  <a:gd name="textAreaRight" fmla="*/ 1681200 w 16808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893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>
                  <a:gd name="textAreaLeft" fmla="*/ 0 w 6543360"/>
                  <a:gd name="textAreaRight" fmla="*/ 6543720 w 65433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94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895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896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897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898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899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900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901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902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903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904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CE0D-4F36-4766-9FCD-E08893B7346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9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91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2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4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904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912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92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893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>
                <a:gd name="textAreaLeft" fmla="*/ 0 w 6543360"/>
                <a:gd name="textAreaRight" fmla="*/ 6543720 w 654336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894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895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96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897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898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899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900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901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902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903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C5D9-9EF6-496B-AC39-7AA315B4D76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reshman Yea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ut it Pe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goal not written is only a wish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st them where you can see them ofte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7" name="Picture 4" descr="E:\PFiles\MSOffice\Clipart\standard\stddir1\bd06937_.wmf"/>
          <p:cNvPicPr/>
          <p:nvPr/>
        </p:nvPicPr>
        <p:blipFill>
          <a:blip r:embed="rId3"/>
          <a:stretch/>
        </p:blipFill>
        <p:spPr>
          <a:xfrm>
            <a:off x="3352680" y="3429000"/>
            <a:ext cx="25146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Just Do I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ully commit to your goal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en will you work on them, how, where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re is no try, only do or do not.”  --Yod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0" name="Picture 5" descr="http://www.geocities.com/yodajm_2002/pix/yoda1.jpg?SSImageQuality=Full"/>
          <p:cNvPicPr/>
          <p:nvPr/>
        </p:nvPicPr>
        <p:blipFill>
          <a:blip r:embed="rId4"/>
          <a:stretch/>
        </p:blipFill>
        <p:spPr>
          <a:xfrm>
            <a:off x="6095880" y="3962520"/>
            <a:ext cx="20131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Use Momentous Moment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new school yea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new yea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new da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new job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life changing eve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ick to your goals, even when you no longer feel like it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3" name="Picture 4" descr="E:\PFiles\MSOffice\Clipart\smbusbas\bs00057_.wmf"/>
          <p:cNvPicPr/>
          <p:nvPr/>
        </p:nvPicPr>
        <p:blipFill>
          <a:blip r:embed="rId7"/>
          <a:stretch/>
        </p:blipFill>
        <p:spPr>
          <a:xfrm>
            <a:off x="5181480" y="2286000"/>
            <a:ext cx="223992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Rope Up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orrow strength from other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ll people about your goal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6" name="Picture 4" descr="E:\PFiles\MSOffice\Clipart\smbusbas\pe07399_.wmf"/>
          <p:cNvPicPr/>
          <p:nvPr/>
        </p:nvPicPr>
        <p:blipFill>
          <a:blip r:embed="rId3"/>
          <a:stretch/>
        </p:blipFill>
        <p:spPr>
          <a:xfrm>
            <a:off x="4419720" y="3200400"/>
            <a:ext cx="37335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on’t Be Afraid to Fal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Goal Writ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990720" y="205740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My Goals sheet write three SMART goals for the academic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RT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st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1904760"/>
            <a:ext cx="69339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radley Hand ITC"/>
                <a:ea typeface="Times New Roman"/>
              </a:rPr>
              <a:t>“</a:t>
            </a:r>
            <a:r>
              <a:rPr b="1" i="1" lang="en-US" sz="4400" spc="-1" strike="noStrike">
                <a:solidFill>
                  <a:srgbClr val="000000"/>
                </a:solidFill>
                <a:latin typeface="Bradley Hand ITC"/>
                <a:ea typeface="Times New Roman"/>
              </a:rPr>
              <a:t>If you want to live a happy life, tie it to a goal, not to people or things.”</a:t>
            </a:r>
            <a:r>
              <a:rPr b="0" lang="en-US" sz="4400" spc="-1" strike="noStrike">
                <a:solidFill>
                  <a:srgbClr val="000000"/>
                </a:solidFill>
                <a:latin typeface="Bradley Hand ITC"/>
                <a:ea typeface="Times New Roman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radley Hand ITC"/>
                <a:ea typeface="Times New Roman"/>
              </a:rPr>
              <a:t>--Albert Einstei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Ball Toss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w is our ball tossing activity related to goals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MART GOAL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ecific – does my goal tell me exactly what I want to achieve?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asurable – how will I know I have met my goal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hievable – is my goal possible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alistic – will I be able to meet my goal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mebound – is there a time limit to my goal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ennis Ball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 Black"/>
              </a:rPr>
              <a:t>Take a tennis ball and know what number you hav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 Black"/>
              </a:rPr>
              <a:t>When I say start, throw your tennis ball as high in the air as you can without touching the ceiling and catch it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 Black"/>
              </a:rPr>
              <a:t>How many balls touched the ground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 Black"/>
              </a:rPr>
              <a:t>This time, you are to catch someone else’s ball.  Start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 Black"/>
              </a:rPr>
              <a:t>How many balls touched the ground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Black"/>
              </a:rPr>
              <a:t>Was it harder to catch your own ball or someone else’s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Black"/>
              </a:rPr>
              <a:t>How could you have been more successful to catch someone else’s ball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Black"/>
              </a:rPr>
              <a:t>How is this related to goal setting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Black"/>
              </a:rPr>
              <a:t>If you zero in on just one goal, is it easier or harder to accomplish the goal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ligraph421 BT"/>
                <a:ea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ligraph421 BT"/>
                <a:ea typeface="Times New Roman"/>
              </a:rPr>
              <a:t>Without goals, and plans to reach them, you are like a ship that has set sail with no destination.” 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ligraph421 BT"/>
                <a:ea typeface="Times New Roman"/>
              </a:rPr>
              <a:t>-- Fitzhugh Dods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5 Keys to Goal Setting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unt the Cos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ut it in P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ust Do I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se Momentous Momen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ope 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1" name="Picture 4" descr="E:\PFiles\MSOffice\Clipart\standard\stddir2\bs00850_.wmf"/>
          <p:cNvPicPr/>
          <p:nvPr/>
        </p:nvPicPr>
        <p:blipFill>
          <a:blip r:embed="rId6"/>
          <a:stretch/>
        </p:blipFill>
        <p:spPr>
          <a:xfrm>
            <a:off x="5486400" y="2666880"/>
            <a:ext cx="29718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ount the Cos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t a goa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at will it require?  List the step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at are the benefits?  Are they worth it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nly make a commitment you are willing to keep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4" name="Picture 4" descr="E:\PFiles\MSOffice\Clipart\standard\stddir1\bd04896_.wmf"/>
          <p:cNvPicPr/>
          <p:nvPr/>
        </p:nvPicPr>
        <p:blipFill>
          <a:blip r:embed="rId5"/>
          <a:stretch/>
        </p:blipFill>
        <p:spPr>
          <a:xfrm>
            <a:off x="5257800" y="4495680"/>
            <a:ext cx="302724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04:06:46Z</dcterms:created>
  <dc:creator>Darrin Williams</dc:creator>
  <dc:description/>
  <dc:language>en-US</dc:language>
  <cp:lastModifiedBy>NHBOE</cp:lastModifiedBy>
  <dcterms:modified xsi:type="dcterms:W3CDTF">2013-09-18T13:51:46Z</dcterms:modified>
  <cp:revision>18</cp:revision>
  <dc:subject/>
  <dc:title>Goals</dc:title>
</cp:coreProperties>
</file>